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211-E2D2-44DC-B6A0-860A3D78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67F-F489-437C-BDFF-C0ACC701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991-FE48-4708-94A4-1DF8AC22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FA7-B602-4A54-9B67-9B5E5927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E4FD-B2F5-42B4-8188-2A36367E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253D-7814-4732-9080-833E4A24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8AF4-2FCC-4C97-9996-F270B58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F6E0-8837-45FB-925D-526B3D1D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E972-55BF-464A-96F3-19C512E8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F47F-7994-4D7D-B7BD-668582C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DF9B-D9FB-46A6-A8A7-7CB4434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2C3-E359-46A9-8047-380A7C78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28C3-733D-4452-B689-D434B089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7F84-31FD-43AF-858A-83F88F9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4161-C948-4F96-A714-DD53844B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CDFC-CA53-41ED-B29E-B8BFDB75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F96B-109C-44F1-A840-2CCBC2A3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A502-32FD-420B-8C63-DE52AC31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597A-0685-4474-9FEB-88550F1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8C65-F81D-40AD-9288-AA75A1AB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0AD6-B909-46F6-9CC6-54DB05ED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D0FB-F04E-4A0E-B167-4174091B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2CA-957C-478E-9FBD-76452785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358C-9887-4052-9E4D-0C789BC9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5767-5FEB-4C8D-8BCE-D71E681B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6DEE-976C-4BBC-9168-812F5E34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B364-469F-4802-B0F8-BE5688B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43FB-D33A-4E3A-9B54-6FCC362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8AB2-46AF-49CA-A3C7-6ACFB004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F3CB-1FB1-4E3C-B93F-3ADF0054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06E0-AE50-474C-BB5D-6C30264C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685F-301F-4C6C-AA01-EA0F8530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5B5D-CDD4-4B11-8FF1-6BB5261C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1F5-3C16-4D02-8672-6C6B846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E688-C57E-4D7C-A5B1-3042D91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58CA-483E-4CB8-AA10-86DB37C3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CF0D-FA40-48BF-9F74-28AE2C50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2439-8289-4230-A4EF-8E86AD5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A99F-2D0D-4DEC-B5FD-29D0446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5BF90-2836-4350-93F7-F330E94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9AFE-E083-4B3A-971C-15E8C37D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154A-29B8-431A-8F12-00673D9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FFA8-C427-4DE3-A09D-28F68001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70D5-DAE7-4520-B634-B6161452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F1D-B8FB-4C34-B67E-FF1DEA5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1BA7A-7AAC-46E3-9931-938464FC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B2510-28AE-403C-91AC-795C9ADB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47CD2-60C9-4022-B6B6-74116A8F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F6301-E9D9-4702-B83D-B55F313C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16FB-358D-408D-80C7-F11F04DE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2342-D4F4-4A89-BAEC-DD8487E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ED37-C7E5-40F7-9126-5A63617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F4774-F8A0-4531-AAA9-4A1007E4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ED6EA-E8C5-4F3C-BAE2-6EE9809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8F2E2-8C75-4686-9734-61F1A56A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A3A-DD68-47B0-9DF3-D7DC3A27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9616-026B-47C8-B3CF-32662608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85B6A-8B52-4E52-914B-7A9EC7D0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4C054-6C9C-4A0C-88AD-194F3E86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E8BF-ECBB-4B53-B4F9-DDDC99E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C51B-0870-40D7-93F3-AF54C34A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0C11-B26C-4981-8283-B50DCC0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EAF8-5FD5-4D24-8CE8-4604A143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DD13-4373-4B8E-9B76-DD3D871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5051B-365C-4C52-9943-7B31C84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498F-BFC6-4993-A3FC-6C01C33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A6B-C451-4F93-9DAB-3FA4C772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8141-11FC-42B4-8D91-C42C08F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7F18-BB31-4C45-8389-35DDBA97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56DBB-0461-4627-A41C-9650268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89330-9D7C-4EA5-B3F4-74922E7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67228-E54E-4133-B4FA-551F340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7056-D111-4EDD-8D15-20DD9B4D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65BE-EDC7-42B3-819C-96FB01BD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A29A9-3CB1-40AC-94AE-14998561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DDAA7-EED1-40E7-9128-3606D24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02E6-6EF5-44F9-96B7-2C63C6A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EF5-E356-496E-AE2D-DC603F3A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F6AD6-47C1-441A-9436-8CBF5D8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B0F6-1B1F-4772-823D-F27CA313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E8445-FE8A-47D5-9286-997F3384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2F1DA-DF31-46CF-9FFD-7DE59155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A8E93-60E4-493D-947F-5C68E0CD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93B28-D2EA-42B4-85B3-931BD9CD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73B24-D712-4EBA-B464-CAC9A643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ADC74-D9C2-4C09-9B45-577277F1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72AED-5716-4C68-BA52-93DFB61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4479-BCE5-4DEB-A40E-D6F0F3F6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AB0-EF27-41A5-A16C-423B21E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DAAB0-42E3-4A6C-A507-A3E23873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474EA-5986-4DBB-999A-3C4A21DC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CCF3-A823-453A-BBD5-1D469583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CDEE0-C2AB-4F62-BE02-2A2A6498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03CEC-93FB-43C1-8BD3-63BB3C23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3362-0DE4-4ED5-A993-9A5E65F6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1EE8-386C-41D3-BE2E-A0F6E5A3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2D5-8A45-41E3-984F-ACD32F6717A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677880" y="486396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85800" y="6730920"/>
            <a:ext cx="5486400" cy="9144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77880" y="486396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85800" y="6730920"/>
            <a:ext cx="171360" cy="9144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12960" y="847404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6F89-4895-47B7-B3E7-CB99B0DD14D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685800" y="375912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685800" y="375912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1360" y="8474040"/>
            <a:ext cx="1141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B57-FA66-4EED-95EA-8CA29078A118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5979-4267-4A61-815C-79709002D2E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56B7-3176-4BCE-B731-FB3CC8F8C00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4633920" y="409680"/>
            <a:ext cx="0" cy="804528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836-A6BD-4FEA-B912-F8C60C5D186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43080" y="668160"/>
            <a:ext cx="136440" cy="9144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5A5-3860-4263-A2E5-96B56C70E4F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4916520" y="368280"/>
            <a:ext cx="0" cy="78026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9A4-EE6B-4E10-B728-A8D5A677A95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51436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s I Believe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14400" y="6832440"/>
            <a:ext cx="51436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http://www.npr.org/series/4538138/this-i-belie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http://thisibelieve.org/guidelines/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do I believe about reading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there are life lessons in fi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in the power of independent rea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in the power of guiding students in rea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the amount of reading students do matte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in the knowledge that various text types off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reading is an invaluable life ski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CTE Beliefs About Wri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 order to make sure that all individual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ve access to the personal pleasures and intellectual benefits of full literacy, NCTE believes that our society and our schools must provide students with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to a wide range of texts that mirror the range of students' abilities and interests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ple time to read a wide range of materials, from the very simple to the very challenging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achers who help them develop an extensive repertoire of skills and strategies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portunities to learn how reading, writing, speaking, and listening support each other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access to the literacy skills needed in a technologically advanced societ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www.ncte.org/positions/statements/positiononread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s I Believe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www.npr.org/templates/story/story.php?storyId=102649267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www.npr.org/templates/story/story.php?storyId=10183144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are your beliefs 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I Believe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1:30:50Z</dcterms:created>
  <dc:creator>Kathy</dc:creator>
  <dc:description/>
  <dc:language>en-US</dc:language>
  <cp:lastModifiedBy>jadams82</cp:lastModifiedBy>
  <dcterms:modified xsi:type="dcterms:W3CDTF">2013-01-20T16:19:06Z</dcterms:modified>
  <cp:revision>28</cp:revision>
  <dc:subject/>
  <dc:title>Assessment</dc:title>
</cp:coreProperties>
</file>